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D17-6453-4618-855F-E01730EB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B70-853B-454E-BCB0-2D203D6D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E15-1612-43A7-BC6E-4253BA04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1C5-C7D1-4631-BD49-497EDCDC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C85-454D-49A4-8D0B-D0238DB9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AB9-3CAA-45A4-A447-38617C8B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CD1-A207-42BF-810A-F1F9FE3D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5E2-905D-4703-8FAA-44C76594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F80-4900-4D87-A066-E174861B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5FB-1CA6-443B-9D6D-F948046E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990-F716-45C6-9BFA-8A32A075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0F8-CE52-4636-A047-C81388B2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481D-5878-4441-BAE1-11D0CB92A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2360" y="263700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أعم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293760" y="907920"/>
            <a:ext cx="8601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179280" y="1473120"/>
            <a:ext cx="87138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45086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يد ذلك . لأنهم سوف يعاقبون على ذلك يوم القيامة في نار جهن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297080" y="907920"/>
            <a:ext cx="769464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08000" y="2276640"/>
            <a:ext cx="88376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755640" y="3429000"/>
            <a:ext cx="8190000" cy="10573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2924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ببوا في إضلال قومهم وهلاك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رسال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1042920" y="5073480"/>
            <a:ext cx="7850160" cy="101952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61675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لأن كل إنسان يستطيع معرفة صدق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68"/>
          <a:stretch/>
        </p:blipFill>
        <p:spPr>
          <a:xfrm>
            <a:off x="290520" y="1628640"/>
            <a:ext cx="86025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06560" y="4797360"/>
            <a:ext cx="3530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738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حال الكفار سرد هنا سبب هذه الح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348000" y="993600"/>
            <a:ext cx="5600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79280" y="1503360"/>
            <a:ext cx="87868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395280" y="2314440"/>
            <a:ext cx="8524800" cy="421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919080"/>
            <a:ext cx="8869320" cy="11811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12136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هلا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ك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481960" y="1725480"/>
            <a:ext cx="287280" cy="26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أعظم النعم إرسال الرسل عليهم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هداية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89000" y="204300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ظم الناس كفراً وعناداً 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ض الكبراء والسادة الذين تسببوا في إضلال قومهم وهلاك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773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بح التقليد الأعمى يؤدي إ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ى و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3908520"/>
            <a:ext cx="8666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رفة صدق الرسول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طيعه كل 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3321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قليد في مسائل الاعتق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حرم إلا بعالم موث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845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ما عليه أهل الكفر من سطوة وسلط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يجو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5059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عدم الاغترار بما عليه أهل الكفر من سطوة وسلطا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ذلك زائ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6358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بل الله من العم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ا ما كان خالصاً لوجهه صواباً على سنة نبي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6146640"/>
            <a:ext cx="8666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ا يقبل من العمل إلا ما كان خالصاً لوجهه صواباً على سنة نبيه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: لأن الله تعالى أغنى الشركاء عن الشر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04840" y="2276640"/>
            <a:ext cx="86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سبب في إضلال الن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شراك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192240" y="981000"/>
            <a:ext cx="8653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53:50Z</dcterms:modified>
  <cp:revision>1847</cp:revision>
  <dc:subject/>
  <dc:title>عرض تقديمي في PowerPoint</dc:title>
</cp:coreProperties>
</file>